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036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323208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92320" y="144756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23208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2992320" y="323208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036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129760" y="144756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3040" y="144756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323208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129760" y="323208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3803040" y="323208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D9C9-8C92-40A2-BD68-09F5D2AAB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036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1B12-B48A-4943-A84A-9119E9A2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036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2ACD-C89E-4861-B863-6D95B86B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036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92320" y="144756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47CD-084C-42DB-861C-D38B1F7C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36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0F5F-3218-43CB-8EC5-E6DB222F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60360" y="0"/>
            <a:ext cx="842184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584A-933B-4D6F-965A-0E1B9853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036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992320" y="144756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23208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4A51-796F-480F-8CAA-1552C972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6036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036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992320" y="144756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92320" y="323208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BDC6-A6F8-4416-B48D-8B8FC215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036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992320" y="144756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23208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B01C-28B9-4E59-B61D-3457D9E5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6036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6840" y="323208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131B-7241-4424-A6DA-ACB36E66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036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992320" y="144756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323208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992320" y="323208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7446-39D4-4A99-BB17-156AD227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036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129760" y="144756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3040" y="144756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6840" y="323208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2129760" y="323208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3803040" y="323208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BD91-F5DA-4261-BA36-F7A09C3AB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036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036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2992320" y="144756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60360" y="0"/>
            <a:ext cx="842184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036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92320" y="144756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323208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036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992320" y="144756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92320" y="323208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036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992320" y="144756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23208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4572000" y="5275440"/>
            <a:ext cx="460368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0" y="268200"/>
            <a:ext cx="8915400" cy="6589800"/>
          </a:xfrm>
          <a:prstGeom prst="rtTriangl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5840" y="15238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42880" y="3228840"/>
            <a:ext cx="0" cy="3627720"/>
          </a:xfrm>
          <a:prstGeom prst="line">
            <a:avLst/>
          </a:prstGeom>
          <a:ln cap="sq"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837480" y="-9360"/>
            <a:ext cx="330120" cy="6875280"/>
            <a:chOff x="6837480" y="-9360"/>
            <a:chExt cx="330120" cy="6875280"/>
          </a:xfrm>
        </p:grpSpPr>
        <p:sp>
          <p:nvSpPr>
            <p:cNvPr id="43" name=""/>
            <p:cNvSpPr/>
            <p:nvPr/>
          </p:nvSpPr>
          <p:spPr>
            <a:xfrm>
              <a:off x="6865920" y="6721560"/>
              <a:ext cx="76320" cy="144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837480" y="304812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142040" y="335268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37480" y="42670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37480" y="54864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42040" y="45720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142040" y="579132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37480" y="-9360"/>
              <a:ext cx="75960" cy="1029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142040" y="-7920"/>
              <a:ext cx="25560" cy="4064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837480" y="4762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837480" y="16956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42040" y="7812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42040" y="200016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dt" idx="1"/>
          </p:nvPr>
        </p:nvSpPr>
        <p:spPr>
          <a:xfrm>
            <a:off x="685440" y="5257440"/>
            <a:ext cx="390852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ftr" idx="2"/>
          </p:nvPr>
        </p:nvSpPr>
        <p:spPr>
          <a:xfrm>
            <a:off x="685440" y="5638320"/>
            <a:ext cx="3908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3"/>
          </p:nvPr>
        </p:nvSpPr>
        <p:spPr>
          <a:xfrm>
            <a:off x="7236000" y="6356160"/>
            <a:ext cx="1908000" cy="50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CA31-EB2A-4B44-A29A-064179DE75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7200" y="404640"/>
            <a:ext cx="7489800" cy="5542200"/>
          </a:xfrm>
          <a:custGeom>
            <a:avLst/>
            <a:gdLst/>
            <a:ahLst/>
            <a:rect l="l" t="t" r="r" b="b"/>
            <a:pathLst>
              <a:path w="4718" h="3491">
                <a:moveTo>
                  <a:pt x="4718" y="3491"/>
                </a:moveTo>
                <a:lnTo>
                  <a:pt x="471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20" y="167652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8665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995480"/>
            <a:ext cx="914400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ringing Mediation Hom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ynn P. Coh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19051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440" y="1371240"/>
            <a:ext cx="8474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tion Versus Arbi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981080"/>
            <a:ext cx="8305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diation and arbitration are privat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diation and arbitration both involve the assistance of a trained neutra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diation is cheaper than arbitration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diation is faster than arbitration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diation offers a wide range of solutions, unlike arbitration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36036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plaining Medi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0880" y="2057400"/>
            <a:ext cx="8474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tion allows parties to control the outcome, unlike arbit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tion may maintain/improve the relationship, unlike arbit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bitration ensures certain closure, unlike med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036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plaining Medi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69600" y="1371240"/>
            <a:ext cx="8474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tion Versus Arbi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906120" y="1447560"/>
            <a:ext cx="79326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process 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out what the concern is, and address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options if case does not set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vailable, offer data about success/satisf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 hesitant party some (but not too much)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them dec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6036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lling Parties On Medi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036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tablishing a Panel of Mediator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769608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ll with media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antive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utation for 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23880"/>
            <a:ext cx="5715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mediators based 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520" y="1507680"/>
            <a:ext cx="6629400" cy="8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Components of a Mediator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2438280"/>
            <a:ext cx="702612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tion demonst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s, simulations, simulatio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ion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tion strate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36036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tablishing a Panel of Mediator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6036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tablishing a Panel of Mediator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2438280"/>
            <a:ext cx="731520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ical concer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uring ca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to refresh skills over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507680"/>
            <a:ext cx="6629400" cy="8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Components of a Mediator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6036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tablishing a Panel of Mediator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001000" cy="85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s to Setting Up Own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2133720"/>
            <a:ext cx="731520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nd students to general mediation skills train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ect to mediation panels for court program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14040" y="1523880"/>
            <a:ext cx="4948200" cy="341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6036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terial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7720" y="1600200"/>
            <a:ext cx="7255080" cy="341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control 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to 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36036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ata Collec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036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plaining Medi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3640" y="2133360"/>
            <a:ext cx="794088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n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ivate process in which a neutral party helps people resolve disp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ing two or more emotional people with a problem to talk with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447920"/>
            <a:ext cx="4876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tion 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160" y="2057040"/>
            <a:ext cx="794052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decisions for dispu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 discovery for an inevitable arbi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36036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plaining Medi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1447920"/>
            <a:ext cx="5791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tion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74520" y="1371600"/>
            <a:ext cx="8474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Features of Media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809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7680" y="2527200"/>
            <a:ext cx="84740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2" marL="12952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es decide to enter the mediation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es can leave the mediation process at any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es decide on the outcome of the dispu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36036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plaining Medi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1981080"/>
            <a:ext cx="3733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3809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5040" y="2514600"/>
            <a:ext cx="84740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mediate matters in which she/he can remain impart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lose conflicts of interests; following disclosure, may continue if parties ag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nor the principle of self-determ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036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plaining Medi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981080"/>
            <a:ext cx="739152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al, impartial mediator shal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69600" y="1371600"/>
            <a:ext cx="8474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Features of Media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3809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2527200"/>
            <a:ext cx="84740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 confidential settlement proc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ither the mediator nor the parties shall disclose the communications/conduct of the mediation, unless all parties agree (with limited exception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036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plaining Medi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1981080"/>
            <a:ext cx="739152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69600" y="1371600"/>
            <a:ext cx="8474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Features of Media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14040" y="1904760"/>
            <a:ext cx="84740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s/improves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s parties to come together/t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36036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plaining Medi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295280"/>
            <a:ext cx="7238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Mediation Wo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45920" y="1841400"/>
            <a:ext cx="8474040" cy="341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s poor communication/resolves mis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vers/addresses the true interests of pa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s beyond different views of law/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creative solutions beyond win/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utes se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es do not give up right to arbi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6036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plaining Medi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295280"/>
            <a:ext cx="7238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Mediation Wo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22240" y="1904760"/>
            <a:ext cx="832176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edent des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lationship and cheaper to contest the cla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ndication/punishment remains main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pot syndrome (maximize/minimize recove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36036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plaining Medi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1295280"/>
            <a:ext cx="6705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Mediation Will Not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7T18:01:28Z</dcterms:created>
  <dc:creator>NAR Staff</dc:creator>
  <dc:description/>
  <dc:language>en-US</dc:language>
  <cp:lastModifiedBy>NAR</cp:lastModifiedBy>
  <dcterms:modified xsi:type="dcterms:W3CDTF">2003-10-02T17:17:04Z</dcterms:modified>
  <cp:revision>42</cp:revision>
  <dc:subject/>
  <dc:title>BRINGING MEDIATION HOME</dc:title>
</cp:coreProperties>
</file>