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CF4-9905-41E8-A580-6893C5C0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0E3-4741-489C-B65F-02865572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C15-AFF5-45E3-8850-A884D8C7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57C0-D9A1-49BA-8223-C20FD95E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AE9C-4931-4164-A549-5B5BDD07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D61F-A996-4B3E-9A5D-17F1DDEA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40E4-8A4E-4442-B845-C67CBE3F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7AC7-DAB5-40D1-88B7-0A93107A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1273-5AF3-454A-9F25-0F596342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0A65-7A14-470A-BBDB-0E7B9B1A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6FF4-B53E-4377-AFD8-E525CD1B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8F0-8AF5-4586-AA83-E134FD21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0757-9F20-4033-9C24-80B41682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0067-86B9-46B7-9EED-2AF1F588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AB6C-8905-47D3-867E-71124FDF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D223-BDFA-4C37-B5B0-DC8D3337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3F0A-83F2-44C7-8908-EC965DFF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7F5-20F6-42BE-B4AB-4A48F413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5B2-3FBD-4DF7-9BFA-5B76FD3E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84C-BD26-4C41-A5E1-075FC9BA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3EF-285C-4159-9AF8-EAA55B9A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587-8DA4-4261-938A-E5C7782A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060-B386-4F46-AB68-B5C0E30A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BD7-985B-418C-B6C2-9958FA7E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E0EE-1AC5-445A-8373-53E5E09DF31A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B7B1-DD87-4387-A0F1-AB33B4CA6C73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4840" y="685800"/>
            <a:ext cx="53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29"/>
                </a:solidFill>
                <a:latin typeface="Times New Roman"/>
              </a:rPr>
              <a:t>NATIONAL ASSOCIATION OF REALTORS</a:t>
            </a:r>
            <a:r>
              <a:rPr b="1" lang="en-US" sz="2000" spc="-1" strike="noStrike" baseline="30000">
                <a:solidFill>
                  <a:srgbClr val="333329"/>
                </a:solidFill>
                <a:latin typeface="Times New Roman"/>
              </a:rPr>
              <a:t>®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Welcome to . . .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5909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2003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ation Training Seminar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-- many, including improved relationships, communication, legitimacy, and risk analy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 -- exchange of information might leave party vulnerable to competitive tactic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-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ators and Barri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Effective Nego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issu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istening and face-to-face discuss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dissonance; selective percep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te the view; role reversa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ve devalu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ize conversations; use hypothetical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ators and Barri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Effective Nego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aver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ject a more reasoned analysis of costs and benefit, and refram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vindication and point out positives of settl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995480"/>
            <a:ext cx="91440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gotiation Skills in Mediat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emple Ell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19051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Negot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on is facilitated negoti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ors negotiate with par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ors employ negotiation skills, such as: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ing inform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ing outside of the bo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/assessing op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N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analy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ing interests versus posi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gotiation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3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3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blem-solving</a:t>
            </a:r>
            <a:endParaRPr b="0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sarial; contemplates win/lo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initial deman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or small concess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s or argum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economic resul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et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et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96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-- high economic resul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 -- lack of sufficient information and increased competitiveness does not increase negotiator profi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ignore relationship issu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oper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opening offers and argum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perceptions of fairness and justi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lateral concessions to encourage reciproc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-- more durab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less likely to break dow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ens relationshi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 -- lack of objective standards may be less satisfying and difficult to justif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oper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-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effort to meet parties’ intere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er and Ury -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tting to Y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6T17:51:37Z</dcterms:created>
  <dc:creator>Rene Stemple Ellis</dc:creator>
  <dc:description/>
  <dc:language>en-US</dc:language>
  <cp:lastModifiedBy>NAR</cp:lastModifiedBy>
  <dcterms:modified xsi:type="dcterms:W3CDTF">2003-10-02T17:36:00Z</dcterms:modified>
  <cp:revision>44</cp:revision>
  <dc:subject/>
  <dc:title>Negotiation Skills in Mediation</dc:title>
</cp:coreProperties>
</file>