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42184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61760" y="1447560"/>
            <a:ext cx="49482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61760" y="3232080"/>
            <a:ext cx="49482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42184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144756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297240" y="144756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61760" y="323208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3297240" y="323208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42184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61760" y="144756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434680" y="144756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107960" y="144756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61760" y="323208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2434680" y="323208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4107960" y="323208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7E670-9014-4ABC-AA07-0CD62ED5C16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42184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761760" y="1447560"/>
            <a:ext cx="4948200" cy="34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969D2-69D6-4020-88E8-3F2BD6CE94D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42184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61760" y="1447560"/>
            <a:ext cx="494820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10B96-59A9-494E-AE2D-3B2EC5482C0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42184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61760" y="1447560"/>
            <a:ext cx="241452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97240" y="1447560"/>
            <a:ext cx="241452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E541A-57AE-47E1-BEE6-D441D27FE2D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42184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BED11-963E-4A70-B4A2-33BAF9FF46C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421840" cy="57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E5ABF-6472-48AD-9582-9F1B565E124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42184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1760" y="144756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297240" y="1447560"/>
            <a:ext cx="241452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761760" y="323208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6EE14-393B-4460-BD39-718BAD6057D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42184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61760" y="1447560"/>
            <a:ext cx="4948200" cy="34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42184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1760" y="1447560"/>
            <a:ext cx="241452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97240" y="144756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297240" y="323208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A09E8-A08F-49FD-AEB2-F93A14EFE1E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42184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1760" y="144756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97240" y="144756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61760" y="3232080"/>
            <a:ext cx="49482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ED15B-5428-4573-89C4-FF16AF99A75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42184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1760" y="1447560"/>
            <a:ext cx="49482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761760" y="3232080"/>
            <a:ext cx="49482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09D07-E698-498F-B2B7-39C01885E2B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42184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1760" y="144756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297240" y="144756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61760" y="323208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3297240" y="323208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AD581-AA0D-4CDE-B285-A2CE0F0D469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42184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1760" y="144756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434680" y="144756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107960" y="144756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761760" y="323208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2434680" y="323208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4107960" y="323208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2B7EC-8F0E-4104-91C8-7B6C79D4234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42184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61760" y="1447560"/>
            <a:ext cx="494820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42184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61760" y="1447560"/>
            <a:ext cx="241452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3297240" y="1447560"/>
            <a:ext cx="241452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42184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421840" cy="57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42184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1760" y="144756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297240" y="1447560"/>
            <a:ext cx="241452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61760" y="323208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42184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61760" y="1447560"/>
            <a:ext cx="241452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297240" y="144756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297240" y="323208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42184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61760" y="144756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297240" y="144756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61760" y="3232080"/>
            <a:ext cx="49482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42184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1447560"/>
            <a:ext cx="494820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993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ff99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ff993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536120" indent="-219240">
              <a:spcBef>
                <a:spcPts val="601"/>
              </a:spcBef>
              <a:buClr>
                <a:srgbClr val="ff993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974960" indent="-219240">
              <a:spcBef>
                <a:spcPts val="601"/>
              </a:spcBef>
              <a:buClr>
                <a:srgbClr val="ff993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974960" indent="-219240">
              <a:spcBef>
                <a:spcPts val="601"/>
              </a:spcBef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974960" indent="-219240">
              <a:spcBef>
                <a:spcPts val="601"/>
              </a:spcBef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ldNum" idx="1"/>
          </p:nvPr>
        </p:nvSpPr>
        <p:spPr>
          <a:xfrm>
            <a:off x="7236000" y="6356160"/>
            <a:ext cx="1908000" cy="501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Autofit/>
          </a:bodyPr>
          <a:lstStyle>
            <a:lvl1pPr lvl="1" marL="114480" indent="0" algn="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114480" indent="0" algn="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BA243-D390-456F-9AF3-D59DFFCAC18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1995480"/>
            <a:ext cx="9144000" cy="14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AR Model of Medi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ynn P. Coh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52480" y="19051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560" y="609480"/>
            <a:ext cx="8421480" cy="55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ediation Officer’s Approach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50840" y="1676160"/>
            <a:ext cx="733104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ilitative approach encourag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luation in appropriate circumstan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ose solu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649116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560" y="456840"/>
            <a:ext cx="8421480" cy="70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ediation Officer’s Obligations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90720" y="1523880"/>
            <a:ext cx="733104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lose conflicts of inter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ide by confidentia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te paperwork in a timely manne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649116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421840" cy="63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itiating Mediation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3353040" cy="198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tion 1: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fer parties mediation if matter is deemed arbitr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0" y="1523880"/>
            <a:ext cx="365760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tion 2: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fer parties mediation before arbitrability is determin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914400" y="358128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e futu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. .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ies request mediation prior to requesting arbit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49116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421840" cy="63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ssigning a Mediation Officer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594360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ro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tual requ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ion, attempt to reas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649116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42184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re-mediation Tasks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7720" y="1447560"/>
            <a:ext cx="350532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t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least 10 days before ses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 logis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de agreement to medi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00600" y="1447560"/>
            <a:ext cx="358128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re are pre-mediation concer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ff or mediation offic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or both par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649116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421840" cy="78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tages of Mediation Process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822960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range the ro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ition mediation officer at center of t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diation officer makes opening stat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arin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fidentia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 mediation agre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649116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050840" y="1676160"/>
            <a:ext cx="786456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es’ give statements/ques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issu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-tal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u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an agre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559260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380880" y="380520"/>
            <a:ext cx="8421840" cy="78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tages of Mediation Process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421840" cy="86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riting the Agreement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680" y="1523880"/>
            <a:ext cx="7772400" cy="341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agreement to written form during ses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reement shoul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de terms acceptable to 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ail specif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 written in simple,clear, and familiar langu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on positive a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649116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421840" cy="78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thical Issues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43000" y="1752480"/>
            <a:ext cx="632448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ediator shall disclose real and/or potential conflicts of inter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weap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sk of har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649116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421840" cy="63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thical Issues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8534160" cy="37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d Fai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clu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lsifying and/or withholding key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mediation process solely to gain advant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lu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iling to reach agreement/compromi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649116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4648320"/>
            <a:ext cx="7981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ssume parties are acting in good fait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4218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odel Intended . . . 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8" name=""/>
          <p:cNvSpPr/>
          <p:nvPr/>
        </p:nvSpPr>
        <p:spPr>
          <a:xfrm>
            <a:off x="0" y="649116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38080" y="1981080"/>
            <a:ext cx="73915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 be used as guidelines for an effective mediation pro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42184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odel Not Intended As. . .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120" y="1904760"/>
            <a:ext cx="451188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i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649116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421840" cy="78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ediation Is Voluntary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5943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rties control the outcom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649116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421840" cy="63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ediation Is Confidential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4040" y="1447560"/>
            <a:ext cx="792468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covers all statements, discussions, communications, and documents exchang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reporting potential ethical violations that might be discovered as a result of participation in medi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ation officer shall not testif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ation officer’s notes are destroy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649116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421840" cy="78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ttorneys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98560" y="1752480"/>
            <a:ext cx="7331040" cy="341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ir presence is not requir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may att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ice of their attendance is requir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649116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421840" cy="78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itnesses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50840" y="1600200"/>
            <a:ext cx="5959440" cy="341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ir presence is discourag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have a limited ro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ternati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49116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421840" cy="78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ocumentation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50840" y="1752480"/>
            <a:ext cx="5502240" cy="341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ght be helpfu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hibits are unnecess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ropriate role in the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649116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421840" cy="70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ediation Officer’s Role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50840" y="1676160"/>
            <a:ext cx="733104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Facilitates commun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Reveals interests of par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Explores alternati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649116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0T20:36:54Z</dcterms:created>
  <dc:creator>NAR Staff</dc:creator>
  <dc:description/>
  <dc:language>en-US</dc:language>
  <cp:lastModifiedBy>NAR</cp:lastModifiedBy>
  <cp:lastPrinted>2000-11-30T17:28:14Z</cp:lastPrinted>
  <dcterms:modified xsi:type="dcterms:W3CDTF">2003-10-02T17:17:55Z</dcterms:modified>
  <cp:revision>40</cp:revision>
  <dc:subject/>
  <dc:title>MODEL OF MEDIATION   </dc:title>
</cp:coreProperties>
</file>